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B5B-425E-4DC6-965D-6E6CF4AD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3FB-CF48-468D-92AD-E9C0BEB0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E79-938C-4E62-879F-70482E72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BFD-3B2E-4917-B7F1-5A572C16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982-4544-4414-8CD1-4F7B3A35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D7E2-5F75-472D-9665-7828334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2CB-2335-4E11-92E5-3CFAD18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1B84-01C4-4FC5-9E49-88F92D97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7B4-DB1C-4366-B8B3-A9C4F9F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9FF-9088-45C8-9A6D-91C7BCB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B78-E14B-4F82-8AD8-FFCD0CC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9F7-2D39-4A0B-8BB5-3065EFE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E84E-5A87-40B1-B242-E64626CB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486B-3870-4776-8BC5-A4E5CEF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650-3142-45DE-ACB8-63A1927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3F9-088E-4736-890B-2C9BEC85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AAB6-649B-4F32-9E37-8E4183A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BBB-CBF6-404B-B923-2556E5B8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A5A-5E5A-4A62-833A-01754DC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C4F-D369-4360-842A-C4A55F37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C33-3CCB-493B-8970-1F2F3D5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BB7-E4E5-450A-9B09-28F8D32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DB7-212C-4442-AA1F-0A41AFE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B07-406A-416A-B5E0-07B78A8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9544-90FC-44EE-9E61-29F4FE5F08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B8CC-2B58-430A-98EA-36A1A969FE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Урок русского языка в 7 классе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7640" y="4723920"/>
            <a:ext cx="696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втор: Ковальчук Алена Мирославовна 4курс филологический факуль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ГПИ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399680" y="1628640"/>
            <a:ext cx="669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астица как 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нотац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анный проект предназначен для обогащения у учащихся знаний, также для обогащения этих знаний и для укрепления уже существующих. Работа нацелена на подробное изучение частиц в 7 классе. Здесь рассмотрены вопросы правописание частиц, разряды частиц, употребление частиц в ре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957840" cy="460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505240" cy="324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92360" y="260280"/>
            <a:ext cx="59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такое ЧАСТИЦ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ополагающий вопро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чем нужны части реч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24890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блемные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ие разряды частиц бываю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чему они так называю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авописание частиц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отребление и разграничение на письме частиц НЕ и Н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оказать отличие частиц от знаменательных частей речи, сходство и отличие их от других служебных частей речи.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Уметь определять роль частиц в предложе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оздать ситуацию успеха на уро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16360" y="33336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едставление результатов исследо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ото-репорта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укл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б-сай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чинение или эсс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я доклад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задания (инсценировка, творческая презентац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должительность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недел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урока по 45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ведения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бор и формулировка тем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иск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амостоятельная работа уча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дставление результатов исслед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нформационные 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ий язык: Учеб.для 7 кл. общеобразоват.учреждений/Т.А.Ладыженская, М.Т.Баранов. Л.А.Тростенцова и др.- 31-е изд.- М.: Просвещение. – 200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дыженская Т.А. методическое руководство к учебнику «Русский язык» для 7 кла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етаева Е.А.Современные открытые уроки, Р.Я. 7 класс Ростов- на- Дону, Феникс 20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15:04Z</dcterms:created>
  <dc:creator>home</dc:creator>
  <dc:description/>
  <dc:language>en-US</dc:language>
  <cp:lastModifiedBy>Владимир</cp:lastModifiedBy>
  <dcterms:modified xsi:type="dcterms:W3CDTF">2010-04-22T18:30:01Z</dcterms:modified>
  <cp:revision>25</cp:revision>
  <dc:subject/>
  <dc:title>Урок-путешеств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